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A2B-BC7B-44B9-A6D8-E4D1FD42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D22-6406-45BD-9150-365E18AA49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2CD3-6BBD-4778-A8BF-83C7BAB85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pa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sh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2D1-37E1-45B4-A3EA-4A8458761A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wa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6FDC-33EC-4584-AD39-64369BA9B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sp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7D5-2FE0-48F0-BD01-647907393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ED2-4ABC-4850-8B27-ABEACBAECD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lie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4A5-D881-4058-B526-0808575E7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08B-A430-4027-BCE5-3F90B85C5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3F98-72FE-4F56-BF42-6C0AF0FDC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B48-B369-42D8-B681-5FBB69D2EB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04A4-11D8-44EA-BFAA-F6E269AF6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3A8-4356-4EBE-9D44-7CA9EA86BA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C44-C069-4D1F-B980-862BDAB5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125-591A-4811-AC95-EE08E0A7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81C-67CC-4B04-8779-F6D4E25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CAA-7063-40B0-A6C8-D1222768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3FF-D4E1-4933-BEFD-F4A9799D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0052-CC85-4F69-A120-C46020D8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752-A849-4E2E-98FE-78719417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BDCE-6A97-4602-8FF4-2873CF1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8CDD-67F1-408F-AE9D-B802302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5795-6FAB-4996-88E7-783DDFF3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3C6-EE84-46D5-AF2B-4907423E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0225-BDDB-4A1C-A601-A0AECB8E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5408-93B5-4009-AED8-F689E0BF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E72C-7A57-45BA-B74E-C09D9EB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E78F-5BDA-4EA9-B14F-A6B44F2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E51-6A7E-45E2-A9AD-E187309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595-E73A-4EF6-914E-A31952CC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5EA2-9EAA-4B12-B611-4C325690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F66-94C2-4313-AC4B-152D728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686-5FCC-4004-BCE0-CF04A39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64A-1EA7-4059-A744-856785C2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A37-0795-455C-9D5A-09E53E4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40E-794A-4150-883C-A6CD9B7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6BA-8F0B-45ED-8FF9-1FD5A14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DC89-4E6E-4606-B849-7DB58A7C80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8B9-2CB0-4567-857A-3C2B613FF1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Do Now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" y="12952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swer the following in complete sentences.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is a pronoun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rite 3 sentences containing pronouns and antecedent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5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422440" y="4829040"/>
            <a:ext cx="4130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676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Could/would</a:t>
            </a: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</a:rPr>
              <a:t>= past tense of </a:t>
            </a:r>
            <a:r>
              <a:rPr b="0" i="1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can/will</a:t>
            </a: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</a:rPr>
              <a:t>.</a:t>
            </a:r>
            <a:endParaRPr b="1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22096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 will have enough energy for his workout, but skipping breakfast meant that he can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536400" y="2212920"/>
            <a:ext cx="8077320" cy="1596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152280" y="1981080"/>
            <a:ext cx="8839440" cy="1828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Jeffrey thought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ould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ave enough energy for his workout, but skipping breakfast meant that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could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not complete his train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https://www.foodandhealth.com/images/clipart/breakfast_2_cereal_OJ.jpg"/>
          <p:cNvPicPr/>
          <p:nvPr/>
        </p:nvPicPr>
        <p:blipFill>
          <a:blip r:embed="rId2"/>
          <a:stretch/>
        </p:blipFill>
        <p:spPr>
          <a:xfrm>
            <a:off x="1143000" y="3962520"/>
            <a:ext cx="2819520" cy="26683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74" name="Picture 11" descr="http://www.clipartbest.com/cliparts/9iR/9Ex/9iR9Ex4ie.png"/>
          <p:cNvPicPr/>
          <p:nvPr/>
        </p:nvPicPr>
        <p:blipFill>
          <a:blip r:embed="rId3"/>
          <a:stretch/>
        </p:blipFill>
        <p:spPr>
          <a:xfrm rot="1234200">
            <a:off x="5387760" y="4052880"/>
            <a:ext cx="24159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muscleman02.jpg"/>
          <p:cNvPicPr/>
          <p:nvPr/>
        </p:nvPicPr>
        <p:blipFill>
          <a:blip r:embed="rId1"/>
          <a:stretch/>
        </p:blipFill>
        <p:spPr>
          <a:xfrm>
            <a:off x="5943600" y="3886200"/>
            <a:ext cx="3078000" cy="2700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52280" y="1676520"/>
            <a:ext cx="8869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ular Callout 6"/>
          <p:cNvSpPr/>
          <p:nvPr/>
        </p:nvSpPr>
        <p:spPr>
          <a:xfrm>
            <a:off x="2514600" y="4495680"/>
            <a:ext cx="2666880" cy="2057400"/>
          </a:xfrm>
          <a:prstGeom prst="wedgeRoundRectCallout">
            <a:avLst>
              <a:gd name="adj1" fmla="val 139106"/>
              <a:gd name="adj2" fmla="val -5932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think you’re tough? 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r tense 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had frozen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lost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was knocking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knoc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noc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http://images.all-free-download.com/images/graphiclarge/strawberry_clip_art_11682.jpg"/>
          <p:cNvPicPr/>
          <p:nvPr/>
        </p:nvPicPr>
        <p:blipFill>
          <a:blip r:embed="rId1"/>
          <a:stretch/>
        </p:blipFill>
        <p:spPr>
          <a:xfrm>
            <a:off x="6095880" y="4114800"/>
            <a:ext cx="2514600" cy="2395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had been eating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9" descr="http://images.clipartpanda.com/chocolate-ice-cream-clipart-mint_chocolate_icecream_s.png"/>
          <p:cNvPicPr/>
          <p:nvPr/>
        </p:nvPicPr>
        <p:blipFill>
          <a:blip r:embed="rId1"/>
          <a:stretch/>
        </p:blipFill>
        <p:spPr>
          <a:xfrm rot="948000">
            <a:off x="5832360" y="3456000"/>
            <a:ext cx="23353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pawed at his hair and shook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cannot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uld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http://images.clipartpanda.com/turmoil-clipart-spider-clip-art-black-spider1.png"/>
          <p:cNvPicPr/>
          <p:nvPr/>
        </p:nvPicPr>
        <p:blipFill>
          <a:blip r:embed="rId1"/>
          <a:stretch/>
        </p:blipFill>
        <p:spPr>
          <a:xfrm rot="18987000">
            <a:off x="5314680" y="3750840"/>
            <a:ext cx="2820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was helping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lanie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http://comps.canstockphoto.com/can-stock-photo_csp14923163.jpg"/>
          <p:cNvPicPr/>
          <p:nvPr/>
        </p:nvPicPr>
        <p:blipFill>
          <a:blip r:embed="rId1"/>
          <a:srcRect l="0" t="0" r="0" b="5601"/>
          <a:stretch/>
        </p:blipFill>
        <p:spPr>
          <a:xfrm>
            <a:off x="5181480" y="32767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was a freshman, she wan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couldn’t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7" descr="http://m-y-d-s.com/pet/rat/b.gif"/>
          <p:cNvPicPr/>
          <p:nvPr/>
        </p:nvPicPr>
        <p:blipFill>
          <a:blip r:embed="rId1"/>
          <a:stretch/>
        </p:blipFill>
        <p:spPr>
          <a:xfrm>
            <a:off x="5600880" y="39830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sleeping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7" descr="http://www.clipartreview.com/_images_300/A_Pitcher_and_Glass_Lemonade_100109-160184-543009.jpg"/>
          <p:cNvPicPr/>
          <p:nvPr/>
        </p:nvPicPr>
        <p:blipFill>
          <a:blip r:embed="rId1"/>
          <a:stretch/>
        </p:blipFill>
        <p:spPr>
          <a:xfrm>
            <a:off x="5715000" y="3276720"/>
            <a:ext cx="2971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spent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 thinking that such arrangements are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http://www.kingtutone.com/clipart/clipart6/tut.gif"/>
          <p:cNvPicPr/>
          <p:nvPr/>
        </p:nvPicPr>
        <p:blipFill>
          <a:blip r:embed="rId1"/>
          <a:stretch/>
        </p:blipFill>
        <p:spPr>
          <a:xfrm>
            <a:off x="5791320" y="3625920"/>
            <a:ext cx="25146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had carr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http://www.clipartlord.com/wp-content/uploads/2013/11/turtle6.png"/>
          <p:cNvPicPr/>
          <p:nvPr/>
        </p:nvPicPr>
        <p:blipFill>
          <a:blip r:embed="rId1"/>
          <a:stretch/>
        </p:blipFill>
        <p:spPr>
          <a:xfrm>
            <a:off x="5105520" y="32767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http://fscomps.fotosearch.com/compc/IMZ/IMZ012/sfo0332.jpg"/>
          <p:cNvPicPr/>
          <p:nvPr/>
        </p:nvPicPr>
        <p:blipFill>
          <a:blip r:embed="rId1"/>
          <a:srcRect l="0" t="0" r="0" b="3892"/>
          <a:stretch/>
        </p:blipFill>
        <p:spPr>
          <a:xfrm>
            <a:off x="3200400" y="2238480"/>
            <a:ext cx="3124080" cy="3752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se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Rounded Rectangular Callout 7"/>
          <p:cNvSpPr/>
          <p:nvPr/>
        </p:nvSpPr>
        <p:spPr>
          <a:xfrm>
            <a:off x="304920" y="2362320"/>
            <a:ext cx="2666880" cy="1981080"/>
          </a:xfrm>
          <a:prstGeom prst="wedgeRoundRectCallout">
            <a:avLst>
              <a:gd name="adj1" fmla="val 110064"/>
              <a:gd name="adj2" fmla="val 2144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use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to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ounded Rectangular Callout 8"/>
          <p:cNvSpPr/>
          <p:nvPr/>
        </p:nvSpPr>
        <p:spPr>
          <a:xfrm>
            <a:off x="6477120" y="2590920"/>
            <a:ext cx="2438280" cy="1523880"/>
          </a:xfrm>
          <a:prstGeom prst="wedgeRoundRectCallout">
            <a:avLst>
              <a:gd name="adj1" fmla="val -113560"/>
              <a:gd name="adj2" fmla="val 122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believed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rode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had hit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http://images.sodahead.com/polls/002471527/5929290269_5a944321384707e601c195c82337febc_1M_xlarge.png"/>
          <p:cNvPicPr/>
          <p:nvPr/>
        </p:nvPicPr>
        <p:blipFill>
          <a:blip r:embed="rId1"/>
          <a:stretch/>
        </p:blipFill>
        <p:spPr>
          <a:xfrm>
            <a:off x="6705720" y="4253040"/>
            <a:ext cx="24192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ould have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http://www.clipart-box.com/zoom/kitten121117.jpg"/>
          <p:cNvPicPr/>
          <p:nvPr/>
        </p:nvPicPr>
        <p:blipFill>
          <a:blip r:embed="rId1"/>
          <a:stretch/>
        </p:blipFill>
        <p:spPr>
          <a:xfrm>
            <a:off x="5715000" y="32767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On your own…</a:t>
            </a:r>
            <a:endParaRPr b="1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tense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was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is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ed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ular Callout 18"/>
          <p:cNvSpPr/>
          <p:nvPr/>
        </p:nvSpPr>
        <p:spPr>
          <a:xfrm>
            <a:off x="4191120" y="4114800"/>
            <a:ext cx="2209680" cy="1676520"/>
          </a:xfrm>
          <a:prstGeom prst="wedgeRoundRectCallout">
            <a:avLst>
              <a:gd name="adj1" fmla="val 81486"/>
              <a:gd name="adj2" fmla="val 45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n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wrong ten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ular Callout 19"/>
          <p:cNvSpPr/>
          <p:nvPr/>
        </p:nvSpPr>
        <p:spPr>
          <a:xfrm>
            <a:off x="3962520" y="4114800"/>
            <a:ext cx="2438280" cy="1676520"/>
          </a:xfrm>
          <a:prstGeom prst="wedgeRoundRectCallout">
            <a:avLst>
              <a:gd name="adj1" fmla="val 79287"/>
              <a:gd name="adj2" fmla="val 4532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ante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b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orrection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http://sr.photos3.fotosearch.com/bthumb/CSP/CSP265/k2656699.jpg"/>
          <p:cNvPicPr/>
          <p:nvPr/>
        </p:nvPicPr>
        <p:blipFill>
          <a:blip r:embed="rId1"/>
          <a:stretch/>
        </p:blipFill>
        <p:spPr>
          <a:xfrm>
            <a:off x="7104240" y="4724280"/>
            <a:ext cx="1887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1630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esen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se to indicat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urrent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6440" y="3505320"/>
            <a:ext cx="770544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txBody>
          <a:bodyPr anchor="ctr">
            <a:normAutofit/>
          </a:bodyPr>
          <a:p>
            <a:pPr lvl="1" marL="347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Jeffrey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c0504d"/>
                </a:solidFill>
                <a:uFillTx/>
                <a:latin typeface="Arial Black"/>
                <a:ea typeface="Arial"/>
              </a:rPr>
              <a:t>goes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to the gym six days a we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04920" y="1752480"/>
            <a:ext cx="853416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esent tens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verb + s = singular;</a:t>
            </a:r>
            <a:br>
              <a:rPr sz="3500"/>
            </a:b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verb + Ø = plural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http://www.clipartbest.com/cliparts/9cp/ze9/9cpze9ocE.gif"/>
          <p:cNvPicPr/>
          <p:nvPr/>
        </p:nvPicPr>
        <p:blipFill>
          <a:blip r:embed="rId1"/>
          <a:stretch/>
        </p:blipFill>
        <p:spPr>
          <a:xfrm>
            <a:off x="1752480" y="4951440"/>
            <a:ext cx="2057400" cy="11620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146" name="Picture 12" descr="http://www.easyvectors.com/assets/images/vectors/afbig/dumbell-lifter-clip-art.jpg"/>
          <p:cNvPicPr/>
          <p:nvPr/>
        </p:nvPicPr>
        <p:blipFill>
          <a:blip r:embed="rId2"/>
          <a:stretch/>
        </p:blipFill>
        <p:spPr>
          <a:xfrm>
            <a:off x="4724280" y="4513320"/>
            <a:ext cx="3124440" cy="203976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1630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esent perfec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se to indicat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egular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3580920"/>
            <a:ext cx="7543800" cy="762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txBody>
          <a:bodyPr anchor="ctr">
            <a:normAutofit fontScale="91000"/>
          </a:bodyPr>
          <a:p>
            <a:pPr lvl="1" marL="316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Jeffrey</a:t>
            </a:r>
            <a:r>
              <a:rPr b="1" i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c0504d"/>
                </a:solidFill>
                <a:uFillTx/>
                <a:latin typeface="Arial Black"/>
                <a:ea typeface="Arial"/>
              </a:rPr>
              <a:t>has gained </a:t>
            </a:r>
            <a:r>
              <a:rPr b="1" lang="en-US" sz="2400" spc="-1" strike="noStrike">
                <a:solidFill>
                  <a:srgbClr val="1f497d"/>
                </a:solidFill>
                <a:latin typeface="Arial Black"/>
                <a:ea typeface="Arial"/>
              </a:rPr>
              <a:t>not only muscle but also discip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752480"/>
            <a:ext cx="8908920" cy="1687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esent perfect tens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has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or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hav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past participl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uscleman02.jpg"/>
          <p:cNvPicPr/>
          <p:nvPr/>
        </p:nvPicPr>
        <p:blipFill>
          <a:blip r:embed="rId1"/>
          <a:stretch/>
        </p:blipFill>
        <p:spPr>
          <a:xfrm>
            <a:off x="6934320" y="5000760"/>
            <a:ext cx="1974600" cy="173340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4"/>
          <p:cNvSpPr/>
          <p:nvPr/>
        </p:nvSpPr>
        <p:spPr>
          <a:xfrm>
            <a:off x="2743200" y="5181480"/>
            <a:ext cx="2819520" cy="1371600"/>
          </a:xfrm>
          <a:prstGeom prst="wedgeRoundRectCallout">
            <a:avLst>
              <a:gd name="adj1" fmla="val 119875"/>
              <a:gd name="adj2" fmla="val -695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ave ga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 from women to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8" descr="http://sr.photos2.fotosearch.com/bthumb/CSP/CSP995/k16871796.jpg"/>
          <p:cNvPicPr/>
          <p:nvPr/>
        </p:nvPicPr>
        <p:blipFill>
          <a:blip r:embed="rId2"/>
          <a:stretch/>
        </p:blipFill>
        <p:spPr>
          <a:xfrm>
            <a:off x="228600" y="4933800"/>
            <a:ext cx="1752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25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27"/>
          <p:cNvSpPr/>
          <p:nvPr/>
        </p:nvSpPr>
        <p:spPr>
          <a:xfrm>
            <a:off x="0" y="3733920"/>
            <a:ext cx="9067680" cy="119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Jeffrey</a:t>
            </a:r>
            <a:r>
              <a:rPr b="0" i="1" lang="en-US" sz="24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c0504d"/>
                </a:solidFill>
                <a:uFillTx/>
                <a:latin typeface="Arial Black"/>
              </a:rPr>
              <a:t>had lifted </a:t>
            </a: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free weights for over an hour before someone</a:t>
            </a:r>
            <a:r>
              <a:rPr b="0" i="1" lang="en-US" sz="24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c0504d"/>
                </a:solidFill>
                <a:uFillTx/>
                <a:latin typeface="Arial Black"/>
              </a:rPr>
              <a:t>mentioned </a:t>
            </a:r>
            <a:r>
              <a:rPr b="0" lang="en-US" sz="2400" spc="-1" strike="noStrike">
                <a:solidFill>
                  <a:srgbClr val="1f497d"/>
                </a:solidFill>
                <a:latin typeface="Arial Black"/>
              </a:rPr>
              <a:t>the rip in his sh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6080"/>
            <a:ext cx="8915400" cy="170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 perfec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 action that occurred before another past ac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905120"/>
            <a:ext cx="906768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tense: 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regular =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ed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; irregular forms vary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had</a:t>
            </a: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http://images.clipartpanda.com/weight-clipart-weights_-_dumbells_1.gif"/>
          <p:cNvPicPr/>
          <p:nvPr/>
        </p:nvPicPr>
        <p:blipFill>
          <a:blip r:embed="rId1"/>
          <a:stretch/>
        </p:blipFill>
        <p:spPr>
          <a:xfrm>
            <a:off x="152280" y="5105520"/>
            <a:ext cx="167652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57" name="Picture 10" descr="http://www.acs.gr/storage/weight_lifting_-_barbell.gif"/>
          <p:cNvPicPr/>
          <p:nvPr/>
        </p:nvPicPr>
        <p:blipFill>
          <a:blip r:embed="rId2"/>
          <a:stretch/>
        </p:blipFill>
        <p:spPr>
          <a:xfrm>
            <a:off x="6657840" y="5105520"/>
            <a:ext cx="233388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58" name="Picture 12" descr="http://cliparts101.com/files/910/A7F4215D2B76AA27C21CAF9AA914B213/Shorts_3.png"/>
          <p:cNvPicPr/>
          <p:nvPr/>
        </p:nvPicPr>
        <p:blipFill>
          <a:blip r:embed="rId3"/>
          <a:stretch/>
        </p:blipFill>
        <p:spPr>
          <a:xfrm>
            <a:off x="3429000" y="5105520"/>
            <a:ext cx="1866960" cy="1590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152280" y="3505320"/>
            <a:ext cx="5791320" cy="167616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Jeffrey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as showing</a:t>
            </a:r>
            <a:r>
              <a:rPr b="0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off when he tore a muscle in his shoul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21333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rogressive tens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n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ngoing action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occurs as another action happen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2438280"/>
            <a:ext cx="899172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c000"/>
                </a:solidFill>
                <a:uFillTx/>
                <a:latin typeface="Arial Black"/>
                <a:ea typeface="Arial"/>
              </a:rPr>
              <a:t>Progressive Tenses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: </a:t>
            </a:r>
            <a:br>
              <a:rPr sz="3500"/>
            </a:b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form of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be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verb</a:t>
            </a:r>
            <a:r>
              <a:rPr b="0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 + </a:t>
            </a:r>
            <a:r>
              <a:rPr b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in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8" descr="http://cf.l.thumbs.canstockphoto.com/canstock18902316.jpg"/>
          <p:cNvPicPr/>
          <p:nvPr/>
        </p:nvPicPr>
        <p:blipFill>
          <a:blip r:embed="rId1"/>
          <a:stretch/>
        </p:blipFill>
        <p:spPr>
          <a:xfrm>
            <a:off x="6553080" y="3705120"/>
            <a:ext cx="2133720" cy="27640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163" name="Picture 10" descr="http://cdn.graphicsfactory.com/clip-art/image_files/image/1/749271-barbell.gif"/>
          <p:cNvPicPr/>
          <p:nvPr/>
        </p:nvPicPr>
        <p:blipFill>
          <a:blip r:embed="rId2"/>
          <a:srcRect l="0" t="11053" r="0" b="8332"/>
          <a:stretch/>
        </p:blipFill>
        <p:spPr>
          <a:xfrm>
            <a:off x="1638360" y="5410080"/>
            <a:ext cx="2857320" cy="122400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5541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logic permits, you can mix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ast/prese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s with 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utu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1038"/>
          <p:cNvSpPr/>
          <p:nvPr/>
        </p:nvSpPr>
        <p:spPr>
          <a:xfrm>
            <a:off x="76320" y="2057400"/>
            <a:ext cx="8991360" cy="236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Because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ent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to the gym today, Jeffrey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ill reward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imself with a triple bacon cheeseburger for lunch. After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eighs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himself tomorrow, he</a:t>
            </a:r>
            <a:r>
              <a:rPr b="0" i="1" lang="en-US" sz="3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0" i="1" lang="en-US" sz="3000" spc="-1" strike="noStrike" u="sng">
                <a:solidFill>
                  <a:srgbClr val="c0504d"/>
                </a:solidFill>
                <a:uFillTx/>
                <a:latin typeface="Arial Black"/>
              </a:rPr>
              <a:t>will regret</a:t>
            </a:r>
            <a:r>
              <a:rPr b="0" i="1" lang="en-US" sz="3000" spc="-1" strike="noStrike" u="sng">
                <a:solidFill>
                  <a:srgbClr val="1f497d"/>
                </a:solidFill>
                <a:uFillTx/>
                <a:latin typeface="Arial Black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Arial Black"/>
              </a:rPr>
              <a:t>the poor food choic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http://thumbs.dreamstime.com/z/bacon-cheeseburger-5925848.jpg"/>
          <p:cNvPicPr/>
          <p:nvPr/>
        </p:nvPicPr>
        <p:blipFill>
          <a:blip r:embed="rId1"/>
          <a:srcRect l="3408" t="0" r="4226" b="14105"/>
          <a:stretch/>
        </p:blipFill>
        <p:spPr>
          <a:xfrm>
            <a:off x="152280" y="4724280"/>
            <a:ext cx="2684520" cy="19591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67" name="Picture 9" descr="http://timenewsfeed.files.wordpress.com/2013/05/nf_bacon_longevity_0508.jpg%3Fw%3D753"/>
          <p:cNvPicPr/>
          <p:nvPr/>
        </p:nvPicPr>
        <p:blipFill>
          <a:blip r:embed="rId2"/>
          <a:stretch/>
        </p:blipFill>
        <p:spPr>
          <a:xfrm>
            <a:off x="6477120" y="4749840"/>
            <a:ext cx="2496960" cy="19558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68" name="Picture 11" descr="http://www.efhcenter.com/img/~www.EFHCenter.com/Scale.jpg"/>
          <p:cNvPicPr/>
          <p:nvPr/>
        </p:nvPicPr>
        <p:blipFill>
          <a:blip r:embed="rId3"/>
          <a:srcRect l="9341" t="0" r="11568" b="4036"/>
          <a:stretch/>
        </p:blipFill>
        <p:spPr>
          <a:xfrm>
            <a:off x="3505320" y="4724280"/>
            <a:ext cx="2344680" cy="195912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</dc:description>
  <cp:keywords>verbs tense shift grammar Grammar Bytes! Robin L. Simmons</cp:keywords>
  <dc:language>en-US</dc:language>
  <cp:lastModifiedBy>Shettle, Meghan</cp:lastModifiedBy>
  <dcterms:modified xsi:type="dcterms:W3CDTF">2015-01-05T13:13:23Z</dcterms:modified>
  <cp:revision>401</cp:revision>
  <dc:subject/>
  <dc:title>Tense Shift</dc:title>
</cp:coreProperties>
</file>